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623-BBC7-4850-A92C-1046519D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E97-186E-4D8A-8332-CDCA4AB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066-2997-40BB-811C-42C1333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84E-6761-47EB-AC97-084F2249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2A2-0148-4F67-9D14-519DC32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F18-B0BA-423C-9AB9-F4A40A5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324-FBA8-4CD8-BCCB-84458121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3B8-8FE8-4AB6-83EA-08EC53B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FB2-81E3-4CC3-9986-22361B4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C3F-3F69-422B-8D3E-D6CF2FD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0E6-045B-4A31-A090-B4440DA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142-40BA-4E4B-92DC-0D2EB54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ABD-DD1F-4C52-9B98-7A3A3AD982B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google.com.br/imgres?imgurl=http://3.bp.blogspot.com/_uwgmSXQ7ni8/TCCqxDzAQMI/AAAAAAAAAAk/j1iu89C74MQ/s320/passaros.gif&amp;imgrefurl=http://deborabailarina.blogspot.com/2010/06/andorinhas.html&amp;usg=__-QeiUR9sNVGEypA132f-hbLbTM0=&amp;h=258&amp;w=300&amp;sz=33&amp;hl=pt-BR&amp;start=12&amp;zoom=1&amp;itbs=1&amp;tbnid=1YmjO_c81WFV7M:&amp;tbnh=100&amp;tbnw=116&amp;prev=/images%3Fq%3Dp%25C3%25A1ssaros%26hl%3Dpt-BR%26rlz%3D1W1ADSA_pt-BR%26tbs%3Disch: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wo-birds"/>
          <p:cNvPicPr/>
          <p:nvPr/>
        </p:nvPicPr>
        <p:blipFill>
          <a:blip r:embed="rId1"/>
          <a:stretch/>
        </p:blipFill>
        <p:spPr>
          <a:xfrm>
            <a:off x="0" y="55440"/>
            <a:ext cx="9612360" cy="697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Monte Cast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Legião Ur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Composição: Renato Russo (recortes do Apóstolo Paulo e de Camões).</a:t>
            </a: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279577512_106022042_1-Fotos-de--Passaros-exoticos-127957751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042920" y="1371240"/>
            <a:ext cx="66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Ainda que eu falasse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A língua dos homens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E falasse a língua dos anjos,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Sem amor eu nada s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reuniao-dos-passaro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Maria Lú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Coordenadora do Proje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Além das Palavra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lusoes_101_passaros%20escondid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95640" y="170028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Ainda que eu falas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A língua dos home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E falasse a língua dos anjos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Sem amor eu nada s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7" descr="2442_2007-0093-Seagu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só o amor! É só o amor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Que conhece o que é verdade.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O amor é bom, não quer o mal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Não sente inveja ou se envaidece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passaro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561636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O amor é o fogo que arde sem se ver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ferida que dói e não se sente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um contentamento descontente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dor que desatina sem doer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/>
          </p:cNvPr>
          <p:cNvSpPr/>
          <p:nvPr/>
        </p:nvSpPr>
        <p:spPr>
          <a:xfrm>
            <a:off x="155520" y="46080"/>
            <a:ext cx="1104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55520" y="46080"/>
            <a:ext cx="1104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053passaros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83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55640" y="255852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Ainda que eu falasse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A língua dos homen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E falasse a língua dos anjo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Sem amor eu nada seria.</a:t>
            </a: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971passaros"/>
          <p:cNvPicPr/>
          <p:nvPr/>
        </p:nvPicPr>
        <p:blipFill>
          <a:blip r:embed="rId1"/>
          <a:stretch/>
        </p:blipFill>
        <p:spPr>
          <a:xfrm>
            <a:off x="-324000" y="-774720"/>
            <a:ext cx="9468000" cy="7632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um não querer mais que bem querer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solitário andar por entre a gente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um não contentar-se de contente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cuidar que se ganha em se perder.</a:t>
            </a: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assaro_uirapuru"/>
          <p:cNvPicPr/>
          <p:nvPr/>
        </p:nvPicPr>
        <p:blipFill>
          <a:blip r:embed="rId1"/>
          <a:stretch/>
        </p:blipFill>
        <p:spPr>
          <a:xfrm>
            <a:off x="0" y="46080"/>
            <a:ext cx="9396360" cy="6899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ão contrário a si é o mesm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assaro"/>
          <p:cNvPicPr/>
          <p:nvPr/>
        </p:nvPicPr>
        <p:blipFill>
          <a:blip r:embed="rId1"/>
          <a:stretch/>
        </p:blipFill>
        <p:spPr>
          <a:xfrm>
            <a:off x="-396720" y="-3051000"/>
            <a:ext cx="9762840" cy="1252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763640" y="1536480"/>
            <a:ext cx="6953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Estou acordado e todos dormem.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Todos dormem. Todos dormem.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Agora vejo em parte,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Mas então veremos face a f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emeando_passaros_1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É só o amor! É só o amor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Que conhece o que é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09:14Z</dcterms:created>
  <dc:creator>SEDMS</dc:creator>
  <dc:description/>
  <dc:language>en-US</dc:language>
  <cp:lastModifiedBy>ACER</cp:lastModifiedBy>
  <dcterms:modified xsi:type="dcterms:W3CDTF">2010-10-19T21:52:11Z</dcterms:modified>
  <cp:revision>5</cp:revision>
  <dc:subject/>
  <dc:title>Slide 1</dc:title>
</cp:coreProperties>
</file>